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04A3-B01C-4E88-B083-3C3480700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39CC-F33D-4D67-9CB4-54592D2174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2E4E-5252-47CA-BDA8-EBAC73FA06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3CF8-CE65-48B0-BCE1-4CF5D0D4E3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8279-F77A-4900-853D-FC42AC6C73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7786-B01B-440F-8B6D-F83A8FCE8E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B1E9-7B55-4420-AA70-6E1F36D18B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8C0B-54F2-47E5-BA73-8717FC2F65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6F21-DF41-4899-BD2E-FF24A24DCC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1716-7590-4245-8118-7E203AE5D0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AA82-9871-41D3-A67C-99858AE5A4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A3EE-6FFF-4F51-870D-EF07388791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483B-EC6B-47E0-BA21-E6B1606517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A6FD-24A3-4C87-BB22-B616793571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4A21-1F7C-47A5-BECF-03757F961D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4B42-E479-45C5-80C3-89184944C7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88AB-AF2B-47A6-A529-832F6F24C2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AF1-FFCE-4565-B1AD-FDFF7E6D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6D74-74EB-4E65-9BFC-DB67639F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8C2D-76EE-49B1-A493-7BD197D3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D3D9-37D7-411B-8388-0F5923F8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D618-6ACE-491F-AFE1-E2036B92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FE84-0779-46D5-8BAF-A019ECEF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9035-7873-4FCA-BE3C-662CC26C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8555-082D-46D3-A481-ECBB3495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7683-DF8F-40B3-9B8F-F0DBBA13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FEAE-4D9D-41D8-B670-E8886E7E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1652-7B89-4A1D-8B54-9E41BF78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D28-A780-42E2-9444-B7678C39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4019-7BE0-48FD-97E9-E2F59001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A202-8137-475E-8BB8-F2889F88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7D70-F73A-4BA5-B678-592EB019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23CC-2D4C-4797-AB00-52DCCAB1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EF7E-DC11-44BE-8F34-691D7A63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48E-69F2-4B0B-A149-105CA60D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DB8-6AD1-40D3-9DAE-531B273C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3E14-89EA-46CE-8B2B-A79324E2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5784-3153-4BFD-ABFB-62956F44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BD3E-4159-4D2F-8165-B33603E0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5EB8-B3E8-44B0-A4D2-D0C4E832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D67-C6D1-4DF3-9AD6-2C08E194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1439-67FD-40C8-8139-0B789EA34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EDE2-4257-4025-99E7-89DD31508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Steph&apos;s%20School%20Stuff/Rubric%20for%20Flower%20Problem.x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Bookman Old Style"/>
              </a:rPr>
              <a:t>How do you know they know?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Verdana"/>
              </a:rPr>
              <a:t>Presented by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Verdana"/>
              </a:rPr>
              <a:t>Stephanie Sandwel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-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Old English Text MT"/>
              </a:rPr>
              <a:t>T</a:t>
            </a:r>
            <a:r>
              <a:rPr b="0" lang="en-US" sz="5400" spc="-1" strike="noStrike">
                <a:solidFill>
                  <a:srgbClr val="6600cc"/>
                </a:solidFill>
                <a:latin typeface="Verdana"/>
              </a:rPr>
              <a:t>est for reasonableness and significance of the solution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I-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Old English Text MT"/>
              </a:rPr>
              <a:t>I</a:t>
            </a:r>
            <a:r>
              <a:rPr b="0" lang="en-US" sz="6600" spc="-1" strike="noStrike">
                <a:solidFill>
                  <a:srgbClr val="6600cc"/>
                </a:solidFill>
                <a:latin typeface="Verdana"/>
              </a:rPr>
              <a:t>dentify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Verdana"/>
              </a:rPr>
              <a:t>key concepts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F-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Old English Text MT"/>
              </a:rPr>
              <a:t>F</a:t>
            </a:r>
            <a:r>
              <a:rPr b="0" lang="en-US" sz="5400" spc="-1" strike="noStrike">
                <a:solidFill>
                  <a:srgbClr val="6600cc"/>
                </a:solidFill>
                <a:latin typeface="Verdana"/>
              </a:rPr>
              <a:t>ormulate a conclusion or conjecture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Y-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Old English Text MT"/>
              </a:rPr>
              <a:t>Y</a:t>
            </a:r>
            <a:r>
              <a:rPr b="0" lang="en-US" sz="5400" spc="-1" strike="noStrike">
                <a:solidFill>
                  <a:srgbClr val="6600cc"/>
                </a:solidFill>
                <a:latin typeface="Verdana"/>
              </a:rPr>
              <a:t>ield to mathematical principles and analyze to solve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Arial"/>
              </a:rPr>
              <a:t>Sample Rubric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7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Steph's School Stuff\Rubric for Flower Problem.x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371600" y="28954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ubric for Whitebeard’s Treas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tact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Stephanie Sandw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4caster@longlines.com (H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(605) 422-2192 (H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(712) 279-677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West High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Sioux City, Iow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5"/>
          <p:cNvSpPr/>
          <p:nvPr/>
        </p:nvSpPr>
        <p:spPr>
          <a:xfrm>
            <a:off x="1371600" y="5335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do you know they know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senter:  Stephanie Sandwe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371600" y="2133720"/>
            <a:ext cx="71629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dience:  Middle and High School Teach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cription: Using cooperative grouping in your classroom is a very effective tool in teaching students how to explain, justify and develop a conjecture or conclusion.  Come and see how the acronym JUSTIFY will insure that your students understand mathematical concepts using real world application problems and AP connections strategies.  A sample rubric will be provi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vity presen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Work the problem yourself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Have supplies rea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Determine group siz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Choose a method to determine grou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Create a grading rubr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523880" y="76212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Verdana"/>
              </a:rPr>
              <a:t>Pre- Planning</a:t>
            </a:r>
            <a:r>
              <a:rPr b="0" lang="en-US" sz="4800" spc="-1" strike="noStrike">
                <a:solidFill>
                  <a:srgbClr val="6600cc"/>
                </a:solidFill>
                <a:latin typeface="Verdana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During Classtime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Introduce the probl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Explain any unclear parts of the probl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Explain grading rubr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Monitor groups and assist as need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Summarize findings with the cla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6600cc"/>
                </a:solidFill>
                <a:latin typeface="Verdana"/>
              </a:rPr>
              <a:t>Optional:  Peer grad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After Class Time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Reflect on strengths of using cooperative grou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Identify weaknesses and adjust for next ti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Check work and award poi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990720" y="228600"/>
            <a:ext cx="74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Verdana"/>
              </a:rPr>
              <a:t>What is Cooperative Learning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600200" y="2209680"/>
            <a:ext cx="6629400" cy="38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Verdana"/>
              </a:rPr>
              <a:t>A cooperative learning group is a heterogeneous team of learners who pool their knowledge and abilities to accomplish a assigned tas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Verdana"/>
              </a:rPr>
              <a:t>Source:  “Cooperative Informal Geometry”, Wade H. Sherard III, Dale Seymour Publications, 1995. P. 2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J-U-S-T-I-F-Y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Verdana"/>
              </a:rPr>
              <a:t>SO….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Verdana"/>
              </a:rPr>
              <a:t>What does this mean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J-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Old English Text MT"/>
              </a:rPr>
              <a:t>J</a:t>
            </a:r>
            <a:r>
              <a:rPr b="0" lang="en-US" sz="5400" spc="-1" strike="noStrike">
                <a:solidFill>
                  <a:srgbClr val="6600cc"/>
                </a:solidFill>
                <a:latin typeface="Verdana"/>
              </a:rPr>
              <a:t>ot down thoughts and ideas from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Verdana"/>
              </a:rPr>
              <a:t>pre-planning and discussion</a:t>
            </a:r>
            <a:r>
              <a:rPr b="0" lang="en-US" sz="6000" spc="-1" strike="noStrike">
                <a:solidFill>
                  <a:srgbClr val="6600cc"/>
                </a:solidFill>
                <a:latin typeface="Verdana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U-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Old English Text MT"/>
              </a:rPr>
              <a:t>U</a:t>
            </a:r>
            <a:r>
              <a:rPr b="0" lang="en-US" sz="5400" spc="-1" strike="noStrike">
                <a:solidFill>
                  <a:srgbClr val="6600cc"/>
                </a:solidFill>
                <a:latin typeface="Verdana"/>
              </a:rPr>
              <a:t>tilize proper geometric tools and create a diagram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S-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cc"/>
                </a:solidFill>
                <a:latin typeface="Old English Text MT"/>
              </a:rPr>
              <a:t>S</a:t>
            </a:r>
            <a:r>
              <a:rPr b="0" lang="en-US" sz="7200" spc="-1" strike="noStrike">
                <a:solidFill>
                  <a:srgbClr val="6600cc"/>
                </a:solidFill>
                <a:latin typeface="Verdana"/>
              </a:rPr>
              <a:t>how each step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7:34:39Z</dcterms:created>
  <dc:creator>HCISD</dc:creator>
  <dc:description/>
  <dc:language>en-US</dc:language>
  <cp:lastModifiedBy>Jayhawks</cp:lastModifiedBy>
  <dcterms:modified xsi:type="dcterms:W3CDTF">2010-11-17T00:28:30Z</dcterms:modified>
  <cp:revision>19</cp:revision>
  <dc:subject/>
  <dc:title>How do you know they know?</dc:title>
</cp:coreProperties>
</file>